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A93-71FD-440F-B202-A2B4E30A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228-80BC-46D9-88B9-B6EF781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4A9-84AD-45ED-9E18-95B95BBD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71F-1815-4AAB-91F7-1963083F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C20-C42D-4AD4-BC01-FDCC4B1A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7CF9-E82C-498E-B31E-20A852A1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A02-44B7-474C-827E-098423B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0C67-2877-47C4-8873-B6C6A5D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048-C93A-43F0-9545-EA90884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6454-C45B-446E-9B56-146EAFF5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76D9-9E64-4EE3-A04B-232D2C9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184-D211-4528-A9B2-D457F07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AA61-2B41-4029-B3A3-5A38197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5BC2-163A-4C80-B3A4-7C63737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8D7-1D48-4240-9651-1EF04EE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F848-6BA5-4D5B-ACC4-26D9861F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F9E8-D526-4816-8678-A06A5AFE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26D-89EC-43C2-86A7-716D886F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410-2B61-4BF4-8FBC-1579DC1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455-724C-4F6C-AAEB-361C9D5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42B-A076-4AC3-8979-5191B7D8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046-0621-4B11-8ABE-A63BB85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A04-6159-4337-818A-CF302AD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38A-FFF8-4863-8467-9292E02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F558-4DD1-4C72-A554-8E8DCE316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9DBA-D568-47D9-946A-958CBF9DB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5985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Stencil"/>
              </a:rPr>
              <a:t>Pronouns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1752120"/>
            <a:ext cx="6248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By: Ethan Dodds , Katherine Crocker, and Mary Gle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Stencil"/>
              </a:rPr>
              <a:t>Book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The Notebook-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Percy Jackson The Olympians: The Lighting Thief-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Eargon- 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Harry Potter- 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"/>
              </a:rPr>
              <a:t>Narnia-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tencil"/>
              </a:rPr>
              <a:t>Mov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The Notebook-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Wizards Of Waverly Place: The movie-Th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The Grown up’s- Th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When In Rome- T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Rockwell Condensed"/>
              </a:rPr>
              <a:t>Percy Jackson The Olympian: The Lighting Thief-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Stencil"/>
              </a:rPr>
              <a:t>Definition Of Pronou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tencil"/>
              </a:rPr>
              <a:t>A pronoun takes the place of a no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9900ff"/>
                </a:solidFill>
                <a:latin typeface="Arial Black"/>
              </a:rPr>
              <a:t>Credi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an Dod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16:55Z</dcterms:created>
  <dc:creator>technician</dc:creator>
  <dc:description/>
  <dc:language>en-US</dc:language>
  <cp:lastModifiedBy>technician</cp:lastModifiedBy>
  <dcterms:modified xsi:type="dcterms:W3CDTF">2010-09-02T17:14:02Z</dcterms:modified>
  <cp:revision>8</cp:revision>
  <dc:subject/>
  <dc:title>Pronouns    </dc:title>
</cp:coreProperties>
</file>